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3B0-191F-45AB-BEED-ADC9253A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03C-2C66-4143-BC41-60E3CFDA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2F7-0CDE-4011-A356-259E2157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F02-CD50-4444-8E48-B3CF1856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E65-8B16-47E1-827C-9669BD60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D92-FD87-4073-8710-CA8A3EE0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B7B-52A3-44E3-9867-AC6CA303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91F-49B1-4857-AE8D-FF497BDC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E11-4C14-4C2B-A11D-70CF1FF3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27F-E94A-44A0-B3FE-F5735CA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67C-E79A-4E24-9D56-1A19124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5F7-0AF6-4012-9C7E-233043B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7AFD-A2E5-4383-B87A-3C6BEC131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Answer My Question</a:t>
            </a:r>
            <a:r>
              <a:rPr b="0" lang="en-US" sz="4400" spc="-1" strike="noStrike">
                <a:solidFill>
                  <a:srgbClr val="ff0000"/>
                </a:solidFill>
                <a:latin typeface="Broadway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133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852640"/>
            <a:ext cx="684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many species of tarantula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Do tarantula’s like living alone or with other tarantula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Are tarantul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29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 Cond"/>
              </a:rPr>
              <a:t>800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3357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 Cond"/>
              </a:rPr>
              <a:t>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44:38Z</dcterms:created>
  <dc:creator>dylan.iribarne</dc:creator>
  <dc:description/>
  <dc:language>en-US</dc:language>
  <cp:lastModifiedBy>dylan.iribarne</cp:lastModifiedBy>
  <dcterms:modified xsi:type="dcterms:W3CDTF">2009-06-16T00:51:36Z</dcterms:modified>
  <cp:revision>2</cp:revision>
  <dc:subject/>
  <dc:title>Answer My Question!!!</dc:title>
</cp:coreProperties>
</file>